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D15-0CEE-4D95-B61F-EBDF9BD1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22C-2DBB-466C-B4BF-27A17288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58E-86E2-4E9D-A768-D878A329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D3B-6ABA-4D6D-A8D6-4F534486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2E79-F770-4306-AA66-CD56A132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367F-75DE-4404-85BB-DA12D8EC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1EEF-F1C3-472D-BF91-0D36E6F5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0178-1106-4408-BDE4-15983109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AEE0-295B-4BD6-9170-1312ECBE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3820-9204-4BE8-A630-BA8B4A12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EEE2-5C37-49F3-8D4B-E9DE99CC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5BC-3CCB-4193-8A76-8A78D5CA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FAA5-DA3E-4587-87AC-DCA004BF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4801-DFB7-4037-8B92-6A78A8C0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6735-13A4-4C96-8FE0-F0A83765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4BAE-2F21-4A3B-9D90-9FF647BD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510D-E385-402F-A8F9-40E8D89B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699-CCE8-4861-ADFE-004A87D4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E91-6B20-480B-BC94-3F07094C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831-6F26-4ADF-95B0-9D87A165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4CF-A085-4EFB-BE8E-1B9BA6E8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DEB-5C93-4E90-AD2F-D8FE3C58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498-99E0-4734-BD09-FDB7CCC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688-0A35-4E2D-8C5D-4036C4F8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49A-984A-41B0-B20F-8BA34521EE1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6034-76FF-4481-B845-1D56F86FC7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inance in Educ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urt Decision Guidel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uidelines that have emerged from state and federal court decision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ancing education is a state responsibilit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y usually favor the tax payer over the school distric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hool finance funds, including tax monies, are state funds, and not local ones.  Local school districts are agencies of the state and are in reality acting for the st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hool taxes should not be impos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gislature has complete control of public school fu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lly the courts tend to reflect the values and attitudes of a majority of the people toward the issues and questions o which they are ru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rano v. Priest (197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dmark decision on August 30, 1971, when the California Supreme Court rules that John Serrano’s complaint against the state’s public school financial pattern was justifiable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ucational expenditures per person in California ranged from $274 in one district to $1,710 in anot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nequality was due to the difference in the assessed valuation of property per pupil to be educa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tax effort in the poorer district was twice as high as that in the wealthi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ourt declared the state’s public school financing system to be unconstitutional, violating the equal protection provisions of the 14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mend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equences of Serr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era introduced which required school funding to be determined on some basis other than district property wealt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eriod of retrench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ern about the spiraling cost of educational programs and serv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an Antonio Independent School District v. Rodriguez (197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irst and only equal protection case concerning school finance to be considered by the high court to d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ch 21, 1973, U.S. Supreme Court, by a vote of 5 to 4, reversed the lower court deci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gated all related pending federal court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led that education is not a constitutional federal inte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 Court C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s that followed the Serrano  philosophy found education to be a fundamental right for the students in those several states, or found school financing patterns to be in violation of state education clau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s that followed the Rodriguez philosophy found no justifications for equal-per-pupil expenditures in their state constitutions or ruled that the matter was for legislatures to dec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nance Reform or Tax Redu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mpact of the courts was altered by a tax-reduction movement and/or legislatures deciding they did not have the funds to comply.  The tax-reduction movement was heightened by the passage of Proposition 13 in California.  Several States followed California’s lead in reducing tax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2:23:19Z</dcterms:created>
  <dc:creator>Cynthia Altemueller</dc:creator>
  <dc:description/>
  <dc:language>en-US</dc:language>
  <cp:lastModifiedBy>AEURY</cp:lastModifiedBy>
  <dcterms:modified xsi:type="dcterms:W3CDTF">2006-01-27T22:13:22Z</dcterms:modified>
  <cp:revision>3</cp:revision>
  <dc:subject/>
  <dc:title>Finance in Education</dc:title>
</cp:coreProperties>
</file>